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Snezana Jovanovic" initials="S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5.xml><?xml version="1.0" encoding="utf-8"?>
<p:cmLst xmlns:p="http://schemas.openxmlformats.org/presentationml/2006/main">
  <p:cm authorId="0" dt="2022-08-23T19:37:24.260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0898-5AC0-476A-977C-54CB5D4CE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027A-97E0-4CC0-91BF-24F340B6F8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8957-E988-4D79-98F2-76080A57363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715-6925-4910-A298-B1E25123881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CCAA-DB54-4C1B-9281-2C913261A500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AEA-94F9-40CB-8B7A-81102CFDBD17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D5CF-73F6-4708-8925-B7123ED23A07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F397-0C59-4E01-B24E-A7CA49E1E488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C04D-1235-4569-9DBE-D6EA9AEE46C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C789-A75B-4205-9D0D-3FD16BAA7DF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181-CA2C-4B70-8A6A-58335751936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00C7-4832-4170-AE83-B1D03F1E1C1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34FA-3CCF-4CA9-808B-56A8156801E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2534-7AD9-4DC8-AD77-122BE36935C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995A-3E59-4777-AF28-19182CDBDC53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D152-07C1-47A1-95ED-703B61D293CF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F7DD-A965-4CD0-B178-7E6A61F90542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047C-913A-45DE-A173-FABA13BC666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2AB9-46DF-4EC7-9EF2-875337BA968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2455-1AD4-43E9-9990-7E1625E3904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072-174F-422D-8302-FC94D5014C2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64FB-52BB-494E-A885-D34CB4A85CC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7EB0-C4AB-4CB3-99AB-F0A82BEBC4CC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61FF-9931-49F1-A680-78AF9A363E15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0B6A-8E82-4658-8E9F-58B1D453A0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7225-25D5-4926-8710-FD45B7469B69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EE2-50BC-462E-B7CA-D10C503CE21D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2D1-6DD3-41B4-8546-9633E398B2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600-206B-4380-998E-29C6D570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29C-585D-4EDC-816B-439380A3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655-C116-4364-8FB7-D33C5DA3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ECB-67D9-4E93-9BD5-CDF5B0E2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71F-064E-41A0-AA1A-8B1EBD7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E49-815E-4EEF-A247-AD052DD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3E2-1344-4F07-A7FB-2F8B95F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7AB-9A58-402E-8AEA-2FB8694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954-AD0D-43CE-8562-99BB1FE9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C2E-C7EC-400A-BEC1-2E95158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C71-AAB0-4AAB-BD6A-9BF2D01A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D84-0C29-4C4E-885D-D41D4166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017-0C8F-4B28-9F86-FFD5F1A07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ЕМИЈСКА РАВНОТЕЖА 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НСТАНТА РАВНОТЕЖ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а измеђ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4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 константе равнотеж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 baseline="-18000">
                <a:solidFill>
                  <a:srgbClr val="000000"/>
                </a:solidFill>
                <a:latin typeface="Arial"/>
              </a:rPr>
              <a:t>eq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662960" y="6458040"/>
            <a:ext cx="14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400040" y="486900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50920" y="333360"/>
          <a:ext cx="4182840" cy="5791320"/>
        </p:xfrm>
        <a:graphic>
          <a:graphicData uri="http://schemas.openxmlformats.org/drawingml/2006/table">
            <a:tbl>
              <a:tblPr/>
              <a:tblGrid>
                <a:gridCol w="1287360"/>
                <a:gridCol w="289548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G (kcal/mo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8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4857840" y="2962440"/>
                <a:ext cx="245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Up Arrow 5"/>
          <p:cNvSpPr/>
          <p:nvPr/>
        </p:nvSpPr>
        <p:spPr>
          <a:xfrm rot="18274200">
            <a:off x="3755880" y="2114280"/>
            <a:ext cx="1357200" cy="13352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Up Arrow 6"/>
          <p:cNvSpPr/>
          <p:nvPr/>
        </p:nvSpPr>
        <p:spPr>
          <a:xfrm rot="14122800">
            <a:off x="3756600" y="3731040"/>
            <a:ext cx="1357560" cy="1336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721400" y="11984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СТАНТА РАВНОТЕ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603160" y="968400"/>
            <a:ext cx="39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A  +  bB   </a:t>
            </a: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cC  +  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1042920" y="1700280"/>
                <a:ext cx="216072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719520" y="1700280"/>
                <a:ext cx="25560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[</m:t>
                        </m:r>
                        <m:r>
                          <m:t xml:space="preserve">D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[</m:t>
                        </m:r>
                        <m:r>
                          <m:t xml:space="preserve">B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Rectangle 6"/>
          <p:cNvSpPr/>
          <p:nvPr/>
        </p:nvSpPr>
        <p:spPr>
          <a:xfrm>
            <a:off x="0" y="35478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е дали је фаворизовано стварање продуката или реактан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 &gt;&gt; 1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воризовано је стварање продуката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ј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gt;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 &lt;&lt; 1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воризовано је стварање реактаната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ј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lt; 0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407880" y="681120"/>
            <a:ext cx="84981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да ј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K &gt; 1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у равнотежи има више продуката него реактана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 (g) + 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         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 = 4.57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] [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фаворизовано је настајање продук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214880" y="357336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4785840" y="2276640"/>
            <a:ext cx="609840" cy="152280"/>
            <a:chOff x="4785840" y="2276640"/>
            <a:chExt cx="609840" cy="152280"/>
          </a:xfrm>
        </p:grpSpPr>
        <p:sp>
          <p:nvSpPr>
            <p:cNvPr id="132" name="Line 8"/>
            <p:cNvSpPr/>
            <p:nvPr/>
          </p:nvSpPr>
          <p:spPr>
            <a:xfrm>
              <a:off x="4786200" y="22766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>
              <a:off x="4785840" y="24289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"/>
          <p:cNvSpPr/>
          <p:nvPr/>
        </p:nvSpPr>
        <p:spPr>
          <a:xfrm>
            <a:off x="434880" y="5724360"/>
            <a:ext cx="809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ти вредност Гибсове слободне енергије у овој реакцији на 298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17440" y="1039680"/>
            <a:ext cx="84996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 ли је у овом случају фаворизовано настајање реактаната или продуката реа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g)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g)         2 HI (g)   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5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3696840" y="2349360"/>
            <a:ext cx="609840" cy="152280"/>
            <a:chOff x="3696840" y="2349360"/>
            <a:chExt cx="609840" cy="152280"/>
          </a:xfrm>
        </p:grpSpPr>
        <p:sp>
          <p:nvSpPr>
            <p:cNvPr id="137" name="Line 8"/>
            <p:cNvSpPr/>
            <p:nvPr/>
          </p:nvSpPr>
          <p:spPr>
            <a:xfrm>
              <a:off x="3697200" y="23493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 flipH="1">
              <a:off x="3696840" y="25016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5"/>
          <p:cNvSpPr/>
          <p:nvPr/>
        </p:nvSpPr>
        <p:spPr>
          <a:xfrm>
            <a:off x="419040" y="386064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ти вредност Гибсове слободне енергије у овој реакцији на 500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457200" y="1447920"/>
            <a:ext cx="8497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једна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 [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14400" y="20001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2 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           Ag(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5143320" y="2286000"/>
            <a:ext cx="609840" cy="152280"/>
            <a:chOff x="5143320" y="2286000"/>
            <a:chExt cx="609840" cy="152280"/>
          </a:xfrm>
        </p:grpSpPr>
        <p:sp>
          <p:nvSpPr>
            <p:cNvPr id="143" name="Line 8"/>
            <p:cNvSpPr/>
            <p:nvPr/>
          </p:nvSpPr>
          <p:spPr>
            <a:xfrm>
              <a:off x="5143680" y="22860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 flipH="1">
              <a:off x="5143320" y="24382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8"/>
          <p:cNvSpPr/>
          <p:nvPr/>
        </p:nvSpPr>
        <p:spPr>
          <a:xfrm>
            <a:off x="2714760" y="4357800"/>
            <a:ext cx="1981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34880" y="5724360"/>
            <a:ext cx="80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 ће ова реакција бити спонта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214200" y="285840"/>
            <a:ext cx="849816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0080"/>
                </a:solidFill>
                <a:latin typeface="Calibri"/>
              </a:rPr>
              <a:t>Пример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зити константу равнотеж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 следећу реакци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C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2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S (g)             CS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4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338560" y="2554200"/>
            <a:ext cx="4572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S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H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328920" y="316404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3357360" y="1857240"/>
            <a:ext cx="609840" cy="152280"/>
            <a:chOff x="3357360" y="1857240"/>
            <a:chExt cx="609840" cy="152280"/>
          </a:xfrm>
        </p:grpSpPr>
        <p:sp>
          <p:nvSpPr>
            <p:cNvPr id="151" name="Line 8"/>
            <p:cNvSpPr/>
            <p:nvPr/>
          </p:nvSpPr>
          <p:spPr>
            <a:xfrm>
              <a:off x="3357720" y="18572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 flipH="1">
              <a:off x="3357360" y="20095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"/>
          <p:cNvSpPr/>
          <p:nvPr/>
        </p:nvSpPr>
        <p:spPr>
          <a:xfrm>
            <a:off x="214200" y="4508640"/>
            <a:ext cx="8812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 равнотеже може бити изражена као однос концентрација mol/l  K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 као однос парцијалних притисака продуката и реактаната тада је  K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965240" y="800280"/>
                <a:ext cx="13366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884760" y="711360"/>
                <a:ext cx="144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2484360" y="2305080"/>
                <a:ext cx="30196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V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"/>
              <p:cNvSpPr txBox="1"/>
              <p:nvPr/>
            </p:nvSpPr>
            <p:spPr>
              <a:xfrm>
                <a:off x="2114640" y="4011480"/>
                <a:ext cx="55306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</m:d>
                      </m:e>
                      <m:sup>
                        <m:r>
                          <m:t xml:space="preserve">D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5"/>
          <p:cNvSpPr/>
          <p:nvPr/>
        </p:nvSpPr>
        <p:spPr>
          <a:xfrm>
            <a:off x="1771560" y="864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A(g)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bB(g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67240" y="9590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39800" y="1630800"/>
            <a:ext cx="7913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=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=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V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емина су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41720" y="3543120"/>
            <a:ext cx="75193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V and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V (mol/L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 да се замени з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[A] &amp; [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68560" y="4817520"/>
            <a:ext cx="807840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b - a = m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асног продукт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m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асног реакта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им ако ј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 Br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2HBr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RT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 K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Хомогена равнотеж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46440" y="8254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рсте у истој фаз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551320" y="1643040"/>
            <a:ext cx="355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2N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71680" y="2565360"/>
                <a:ext cx="26762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929040" y="2357280"/>
                <a:ext cx="247032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6"/>
          <p:cNvSpPr/>
          <p:nvPr/>
        </p:nvSpPr>
        <p:spPr>
          <a:xfrm>
            <a:off x="573120" y="4331520"/>
            <a:ext cx="65815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пштем случају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K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403360" y="2558880"/>
                <a:ext cx="3726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¢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"/>
              <p:cNvSpPr txBox="1"/>
              <p:nvPr/>
            </p:nvSpPr>
            <p:spPr>
              <a:xfrm>
                <a:off x="2187720" y="5661000"/>
                <a:ext cx="41576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3"/>
          <p:cNvSpPr/>
          <p:nvPr/>
        </p:nvSpPr>
        <p:spPr>
          <a:xfrm>
            <a:off x="0" y="-367200"/>
            <a:ext cx="914400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а је вода реактант или проду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ја воде не улази у констант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внотеж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H(aq) + 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l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3440" y="4253760"/>
            <a:ext cx="8755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L (1000 g) = 55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ова вод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да ј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H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] = 55.5 M &gt;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тно веће од других врст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 се узима да је концентрација вод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[H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антн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85880" y="3264120"/>
            <a:ext cx="33613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ј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K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[H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нски производ вод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2050920" y="1125360"/>
                <a:ext cx="4710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195640" y="2205000"/>
                <a:ext cx="4376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TextBox 6"/>
          <p:cNvSpPr/>
          <p:nvPr/>
        </p:nvSpPr>
        <p:spPr>
          <a:xfrm>
            <a:off x="324000" y="344664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апишите константу равнотеже и израчунајте коју вредност за ову реакцију има Гибсова слободна енергиј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44236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оме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95727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слободне енергије процеса на константном притиску и константној температури је дата Гибсовом једначи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- T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,процес је спонт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,процес није спонтан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 се налази у равнот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Хетерогена равноте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2214720" y="2205000"/>
                <a:ext cx="31939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¢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aO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2" name="Object 1"/>
          <p:cNvGraphicFramePr/>
          <p:nvPr/>
        </p:nvGraphicFramePr>
        <p:xfrm>
          <a:off x="5867280" y="5884920"/>
          <a:ext cx="263700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5884920"/>
                    <a:ext cx="26370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3"/>
          <p:cNvSpPr/>
          <p:nvPr/>
        </p:nvSpPr>
        <p:spPr>
          <a:xfrm>
            <a:off x="244440" y="1018800"/>
            <a:ext cx="77331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танти и продукти у различитој фаз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CO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s) 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CaO(s)  +  CO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440" y="37234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л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CO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a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у чврсте супстанц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ја чврсте супстанце или чисте течне супстанце је једнак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да не улазе у израз за константу равнотеже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6040" y="5934240"/>
            <a:ext cx="47757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GB" sz="3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n-GB" sz="3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285840" y="78588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CO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      CO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O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7"/>
          <p:cNvGrpSpPr/>
          <p:nvPr/>
        </p:nvGrpSpPr>
        <p:grpSpPr>
          <a:xfrm>
            <a:off x="4161960" y="2205000"/>
            <a:ext cx="609840" cy="152280"/>
            <a:chOff x="4161960" y="2205000"/>
            <a:chExt cx="609840" cy="152280"/>
          </a:xfrm>
        </p:grpSpPr>
        <p:sp>
          <p:nvSpPr>
            <p:cNvPr id="189" name="Line 8"/>
            <p:cNvSpPr/>
            <p:nvPr/>
          </p:nvSpPr>
          <p:spPr>
            <a:xfrm>
              <a:off x="4162320" y="22050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 flipH="1">
              <a:off x="4161960" y="23572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57120" y="85716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станта равнотеже којом се изражава производ растворљив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(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значава равнотежу која се успоставља између нерастворене чврсте фазе и њених хидратисаних јона у раствор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За растварање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Ca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s)       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aq) + 2 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aq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= [C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] [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718080" y="4292640"/>
            <a:ext cx="53316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3717720" y="4437000"/>
            <a:ext cx="53316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0" y="214200"/>
            <a:ext cx="91440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чвс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о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дговарају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хидратис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ј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14240" y="17859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s)          2 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505240" y="242100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[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[Cr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3285720" y="1928880"/>
            <a:ext cx="609840" cy="152280"/>
            <a:chOff x="3285720" y="1928880"/>
            <a:chExt cx="609840" cy="152280"/>
          </a:xfrm>
        </p:grpSpPr>
        <p:sp>
          <p:nvSpPr>
            <p:cNvPr id="198" name="Line 8"/>
            <p:cNvSpPr/>
            <p:nvPr/>
          </p:nvSpPr>
          <p:spPr>
            <a:xfrm>
              <a:off x="3286080" y="19288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"/>
            <p:cNvSpPr/>
            <p:nvPr/>
          </p:nvSpPr>
          <p:spPr>
            <a:xfrm flipH="1">
              <a:off x="3285720" y="20811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5"/>
          <p:cNvSpPr/>
          <p:nvPr/>
        </p:nvSpPr>
        <p:spPr>
          <a:xfrm>
            <a:off x="1095480" y="3573360"/>
            <a:ext cx="7391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e(OH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 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 +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+  2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"/>
              <p:cNvSpPr txBox="1"/>
              <p:nvPr/>
            </p:nvSpPr>
            <p:spPr>
              <a:xfrm>
                <a:off x="2038320" y="4297320"/>
                <a:ext cx="37148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,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1501920" y="5589720"/>
                <a:ext cx="61401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Вишеструке равнотеже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968120" y="621360"/>
            <a:ext cx="530136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 +  B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C  +  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  +  D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E  +  F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056600" y="1651680"/>
            <a:ext cx="79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и у првој реакцији су реактанти у другој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2"/>
          <p:cNvGraphicFramePr/>
          <p:nvPr/>
        </p:nvGraphicFramePr>
        <p:xfrm>
          <a:off x="1697040" y="2112840"/>
          <a:ext cx="55148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2112840"/>
                    <a:ext cx="5514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5"/>
          <p:cNvSpPr/>
          <p:nvPr/>
        </p:nvSpPr>
        <p:spPr>
          <a:xfrm>
            <a:off x="101520" y="3148200"/>
            <a:ext cx="89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да ако се саберу ове две једначине добиће с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 +  B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E  +  F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5033880" y="4106880"/>
          <a:ext cx="21733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3880" y="4106880"/>
                    <a:ext cx="21733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6"/>
          <p:cNvSpPr/>
          <p:nvPr/>
        </p:nvSpPr>
        <p:spPr>
          <a:xfrm>
            <a:off x="4465440" y="10562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7"/>
          <p:cNvGraphicFramePr/>
          <p:nvPr/>
        </p:nvGraphicFramePr>
        <p:xfrm>
          <a:off x="1587600" y="5508720"/>
          <a:ext cx="6062400" cy="11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7600" y="5508720"/>
                    <a:ext cx="606240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9"/>
          <p:cNvSpPr/>
          <p:nvPr/>
        </p:nvSpPr>
        <p:spPr>
          <a:xfrm>
            <a:off x="468360" y="4105800"/>
            <a:ext cx="53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купна константа равнотеж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езивање кисеоника за миоглобин и хемоглоб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457200" y="144792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равнотеже су знатно сложеније од оних које смо већ разматрали. Пример комплексне равнотеже који је веома важан је везивање  кисеоника за хемоглобин у крви. Протеин миоглобин складишти кисеоник у мишићима, а затим га протеин хемоглобин транспортује у кр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авнотежа између миоглобина и хемоглобина се може приказати следећом једначино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0"/>
          <p:cNvGrpSpPr/>
          <p:nvPr/>
        </p:nvGrpSpPr>
        <p:grpSpPr>
          <a:xfrm>
            <a:off x="3663720" y="4689000"/>
            <a:ext cx="762480" cy="153000"/>
            <a:chOff x="3663720" y="4689000"/>
            <a:chExt cx="762480" cy="153000"/>
          </a:xfrm>
        </p:grpSpPr>
        <p:cxnSp>
          <p:nvCxnSpPr>
            <p:cNvPr id="219" name="Straight Arrow Connector 4"/>
            <p:cNvCxnSpPr/>
            <p:nvPr/>
          </p:nvCxnSpPr>
          <p:spPr>
            <a:xfrm>
              <a:off x="3664080" y="468900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Straight Arrow Connector 8"/>
            <p:cNvCxnSpPr/>
            <p:nvPr/>
          </p:nvCxnSpPr>
          <p:spPr>
            <a:xfrm flipH="1" flipV="1">
              <a:off x="3663720" y="48412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21" name="TextBox 9"/>
          <p:cNvSpPr/>
          <p:nvPr/>
        </p:nvSpPr>
        <p:spPr>
          <a:xfrm>
            <a:off x="744120" y="4317840"/>
            <a:ext cx="583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b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aq)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+      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(g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Mb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(a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268200" y="4900680"/>
                <a:ext cx="290664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b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b</m:t>
                                </m:r>
                              </m:e>
                            </m:d>
                          </m:den>
                        </m:f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TextBox 1"/>
          <p:cNvSpPr/>
          <p:nvPr/>
        </p:nvSpPr>
        <p:spPr>
          <a:xfrm>
            <a:off x="3854520" y="4373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3"/>
          <p:cNvGrpSpPr/>
          <p:nvPr/>
        </p:nvGrpSpPr>
        <p:grpSpPr>
          <a:xfrm>
            <a:off x="151560" y="304920"/>
            <a:ext cx="5671800" cy="579600"/>
            <a:chOff x="151560" y="304920"/>
            <a:chExt cx="5671800" cy="579600"/>
          </a:xfrm>
        </p:grpSpPr>
        <p:grpSp>
          <p:nvGrpSpPr>
            <p:cNvPr id="225" name="Group 2"/>
            <p:cNvGrpSpPr/>
            <p:nvPr/>
          </p:nvGrpSpPr>
          <p:grpSpPr>
            <a:xfrm>
              <a:off x="3429000" y="457200"/>
              <a:ext cx="762480" cy="153360"/>
              <a:chOff x="3429000" y="457200"/>
              <a:chExt cx="762480" cy="153360"/>
            </a:xfrm>
          </p:grpSpPr>
          <p:cxnSp>
            <p:nvCxnSpPr>
              <p:cNvPr id="226" name="Straight Arrow Connector 3"/>
              <p:cNvCxnSpPr/>
              <p:nvPr/>
            </p:nvCxnSpPr>
            <p:spPr>
              <a:xfrm>
                <a:off x="3429360" y="4572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27" name="Straight Arrow Connector 4"/>
              <p:cNvCxnSpPr/>
              <p:nvPr/>
            </p:nvCxnSpPr>
            <p:spPr>
              <a:xfrm flipH="1" flipV="1">
                <a:off x="3429000" y="60984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28" name="TextBox 5"/>
            <p:cNvSpPr/>
            <p:nvPr/>
          </p:nvSpPr>
          <p:spPr>
            <a:xfrm>
              <a:off x="151560" y="304920"/>
              <a:ext cx="5671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aq)     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Hb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4"/>
          <p:cNvGrpSpPr/>
          <p:nvPr/>
        </p:nvGrpSpPr>
        <p:grpSpPr>
          <a:xfrm>
            <a:off x="0" y="1295280"/>
            <a:ext cx="7238880" cy="579600"/>
            <a:chOff x="0" y="1295280"/>
            <a:chExt cx="7238880" cy="579600"/>
          </a:xfrm>
        </p:grpSpPr>
        <p:grpSp>
          <p:nvGrpSpPr>
            <p:cNvPr id="230" name="Group 6"/>
            <p:cNvGrpSpPr/>
            <p:nvPr/>
          </p:nvGrpSpPr>
          <p:grpSpPr>
            <a:xfrm>
              <a:off x="3504600" y="1447560"/>
              <a:ext cx="762480" cy="153720"/>
              <a:chOff x="3504600" y="1447560"/>
              <a:chExt cx="762480" cy="153720"/>
            </a:xfrm>
          </p:grpSpPr>
          <p:cxnSp>
            <p:nvCxnSpPr>
              <p:cNvPr id="231" name="Straight Arrow Connector 7"/>
              <p:cNvCxnSpPr/>
              <p:nvPr/>
            </p:nvCxnSpPr>
            <p:spPr>
              <a:xfrm>
                <a:off x="3504960" y="144756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2" name="Straight Arrow Connector 8"/>
              <p:cNvCxnSpPr/>
              <p:nvPr/>
            </p:nvCxnSpPr>
            <p:spPr>
              <a:xfrm flipH="1" flipV="1">
                <a:off x="3504600" y="160056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33" name="TextBox 9"/>
            <p:cNvSpPr/>
            <p:nvPr/>
          </p:nvSpPr>
          <p:spPr>
            <a:xfrm>
              <a:off x="0" y="1295280"/>
              <a:ext cx="7238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     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68760" y="3200400"/>
            <a:ext cx="6500880" cy="579600"/>
            <a:chOff x="68760" y="3200400"/>
            <a:chExt cx="6500880" cy="579600"/>
          </a:xfrm>
        </p:grpSpPr>
        <p:grpSp>
          <p:nvGrpSpPr>
            <p:cNvPr id="235" name="Group 10"/>
            <p:cNvGrpSpPr/>
            <p:nvPr/>
          </p:nvGrpSpPr>
          <p:grpSpPr>
            <a:xfrm>
              <a:off x="3504960" y="3429000"/>
              <a:ext cx="762480" cy="153360"/>
              <a:chOff x="3504960" y="3429000"/>
              <a:chExt cx="762480" cy="153360"/>
            </a:xfrm>
          </p:grpSpPr>
          <p:cxnSp>
            <p:nvCxnSpPr>
              <p:cNvPr id="236" name="Straight Arrow Connector 11"/>
              <p:cNvCxnSpPr/>
              <p:nvPr/>
            </p:nvCxnSpPr>
            <p:spPr>
              <a:xfrm>
                <a:off x="3505320" y="34290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37" name="Straight Arrow Connector 12"/>
              <p:cNvCxnSpPr/>
              <p:nvPr/>
            </p:nvCxnSpPr>
            <p:spPr>
              <a:xfrm flipH="1" flipV="1">
                <a:off x="3504960" y="358164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38" name="TextBox 13"/>
            <p:cNvSpPr/>
            <p:nvPr/>
          </p:nvSpPr>
          <p:spPr>
            <a:xfrm>
              <a:off x="68760" y="3200400"/>
              <a:ext cx="650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 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0"/>
          <p:cNvGrpSpPr/>
          <p:nvPr/>
        </p:nvGrpSpPr>
        <p:grpSpPr>
          <a:xfrm>
            <a:off x="131400" y="5029200"/>
            <a:ext cx="6442920" cy="579600"/>
            <a:chOff x="131400" y="5029200"/>
            <a:chExt cx="6442920" cy="579600"/>
          </a:xfrm>
        </p:grpSpPr>
        <p:grpSp>
          <p:nvGrpSpPr>
            <p:cNvPr id="240" name="Group 14"/>
            <p:cNvGrpSpPr/>
            <p:nvPr/>
          </p:nvGrpSpPr>
          <p:grpSpPr>
            <a:xfrm>
              <a:off x="3657240" y="5257800"/>
              <a:ext cx="762480" cy="153360"/>
              <a:chOff x="3657240" y="5257800"/>
              <a:chExt cx="762480" cy="153360"/>
            </a:xfrm>
          </p:grpSpPr>
          <p:cxnSp>
            <p:nvCxnSpPr>
              <p:cNvPr id="241" name="Straight Arrow Connector 15"/>
              <p:cNvCxnSpPr/>
              <p:nvPr/>
            </p:nvCxnSpPr>
            <p:spPr>
              <a:xfrm>
                <a:off x="3657600" y="52578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2" name="Straight Arrow Connector 16"/>
              <p:cNvCxnSpPr/>
              <p:nvPr/>
            </p:nvCxnSpPr>
            <p:spPr>
              <a:xfrm flipH="1" flipV="1">
                <a:off x="3657240" y="541044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43" name="TextBox 17"/>
            <p:cNvSpPr/>
            <p:nvPr/>
          </p:nvSpPr>
          <p:spPr>
            <a:xfrm>
              <a:off x="131400" y="5029200"/>
              <a:ext cx="644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 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+   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095880" y="38088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b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2382840" y="5681520"/>
                <a:ext cx="336384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362320" y="3809880"/>
                <a:ext cx="33638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2362320" y="1981080"/>
                <a:ext cx="30621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b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"/>
          <p:cNvGrpSpPr/>
          <p:nvPr/>
        </p:nvGrpSpPr>
        <p:grpSpPr>
          <a:xfrm>
            <a:off x="1384920" y="195120"/>
            <a:ext cx="6221520" cy="579600"/>
            <a:chOff x="1384920" y="195120"/>
            <a:chExt cx="6221520" cy="579600"/>
          </a:xfrm>
        </p:grpSpPr>
        <p:grpSp>
          <p:nvGrpSpPr>
            <p:cNvPr id="249" name="Group 4"/>
            <p:cNvGrpSpPr/>
            <p:nvPr/>
          </p:nvGrpSpPr>
          <p:grpSpPr>
            <a:xfrm>
              <a:off x="4610160" y="347400"/>
              <a:ext cx="762480" cy="153720"/>
              <a:chOff x="4610160" y="347400"/>
              <a:chExt cx="762480" cy="153720"/>
            </a:xfrm>
          </p:grpSpPr>
          <p:cxnSp>
            <p:nvCxnSpPr>
              <p:cNvPr id="250" name="Straight Arrow Connector 6"/>
              <p:cNvCxnSpPr/>
              <p:nvPr/>
            </p:nvCxnSpPr>
            <p:spPr>
              <a:xfrm>
                <a:off x="4610520" y="3474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51" name="Straight Arrow Connector 7"/>
              <p:cNvCxnSpPr/>
              <p:nvPr/>
            </p:nvCxnSpPr>
            <p:spPr>
              <a:xfrm flipH="1" flipV="1">
                <a:off x="4610160" y="500400"/>
                <a:ext cx="762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252" name="TextBox 5"/>
            <p:cNvSpPr/>
            <p:nvPr/>
          </p:nvSpPr>
          <p:spPr>
            <a:xfrm>
              <a:off x="1384920" y="195120"/>
              <a:ext cx="6221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aq)     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   4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Hb(O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(aq)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335480" y="1052640"/>
                <a:ext cx="255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957240" y="981000"/>
                <a:ext cx="2657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539640" y="2924280"/>
            <a:ext cx="662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-RTln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1214280" y="71280"/>
            <a:ext cx="6286680" cy="1007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143000" y="1252440"/>
            <a:ext cx="6572160" cy="2466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 учесника у реак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гасовитих 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мина реакционог 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214200" y="4071960"/>
            <a:ext cx="8786880" cy="2378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 Шатељеов принцип: Ако се систему који се налази у стању равнотеже промени један од спољашњих фактора, равнотежа се помера у смеру поништавања утицаја тог спољашњег фактора тј. враћања у првобитн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714240" y="71280"/>
            <a:ext cx="814392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концентрације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1428840" y="874800"/>
          <a:ext cx="63500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874800"/>
                    <a:ext cx="63500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7"/>
          <p:cNvSpPr/>
          <p:nvPr/>
        </p:nvSpPr>
        <p:spPr>
          <a:xfrm>
            <a:off x="638280" y="1714680"/>
            <a:ext cx="14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633240" y="3071880"/>
            <a:ext cx="128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214360" y="327348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3714840" y="1714680"/>
            <a:ext cx="5000400" cy="143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 u="sng">
                <a:solidFill>
                  <a:srgbClr val="ff0000"/>
                </a:solidFill>
                <a:uFillTx/>
                <a:latin typeface="Times New Roman"/>
              </a:rPr>
              <a:t>Равнотежа се помера удесно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овећањем концентрације реактаната или смањењем концентрације производа реа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2205000" y="19162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633240" y="2428920"/>
            <a:ext cx="142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2205000" y="2558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33240" y="3714840"/>
            <a:ext cx="128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 flipH="1">
            <a:off x="2214360" y="391644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33240" y="4416480"/>
            <a:ext cx="1571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sr-Latn-R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33240" y="5059440"/>
            <a:ext cx="1571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sr-Latn-R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32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 flipH="1">
            <a:off x="2204640" y="455940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2205000" y="52023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3714840" y="3786120"/>
            <a:ext cx="5000400" cy="143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 u="sng">
                <a:solidFill>
                  <a:srgbClr val="ff0000"/>
                </a:solidFill>
                <a:uFillTx/>
                <a:latin typeface="Times New Roman"/>
              </a:rPr>
              <a:t>Равнотежа се помера улево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смањењем концентрације реактаната или повећањем концентрације производа реа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42960" y="5786280"/>
            <a:ext cx="8143920" cy="85752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Промена концентрације реагујућих супстанци не утиче на вредност константе равнотеж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" name="Straight Arrow Connector 4"/>
          <p:cNvCxnSpPr/>
          <p:nvPr/>
        </p:nvCxnSpPr>
        <p:spPr>
          <a:xfrm flipV="1">
            <a:off x="685800" y="837360"/>
            <a:ext cx="2160" cy="449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685440" y="5328720"/>
            <a:ext cx="297252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Straight Connector 8"/>
          <p:cNvSpPr/>
          <p:nvPr/>
        </p:nvSpPr>
        <p:spPr>
          <a:xfrm>
            <a:off x="762120" y="1752480"/>
            <a:ext cx="137160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9"/>
          <p:cNvSpPr/>
          <p:nvPr/>
        </p:nvSpPr>
        <p:spPr>
          <a:xfrm>
            <a:off x="2362320" y="4267080"/>
            <a:ext cx="137160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11"/>
          <p:cNvCxnSpPr/>
          <p:nvPr/>
        </p:nvCxnSpPr>
        <p:spPr>
          <a:xfrm>
            <a:off x="1599120" y="1752120"/>
            <a:ext cx="1524600" cy="2515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TextBox 13"/>
          <p:cNvSpPr/>
          <p:nvPr/>
        </p:nvSpPr>
        <p:spPr>
          <a:xfrm>
            <a:off x="846000" y="12193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kt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2521080" y="4419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k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1833840" y="2666880"/>
            <a:ext cx="2215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lt; 0 негативн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2448000" y="15238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lt; 0 negati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нтан процес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25"/>
          <p:cNvCxnSpPr/>
          <p:nvPr/>
        </p:nvCxnSpPr>
        <p:spPr>
          <a:xfrm flipV="1">
            <a:off x="5256360" y="1428480"/>
            <a:ext cx="2160" cy="3962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26"/>
          <p:cNvCxnSpPr/>
          <p:nvPr/>
        </p:nvCxnSpPr>
        <p:spPr>
          <a:xfrm>
            <a:off x="5179680" y="5390640"/>
            <a:ext cx="297252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Straight Connector 27"/>
          <p:cNvSpPr/>
          <p:nvPr/>
        </p:nvSpPr>
        <p:spPr>
          <a:xfrm>
            <a:off x="5256360" y="4857840"/>
            <a:ext cx="13716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8"/>
          <p:cNvSpPr/>
          <p:nvPr/>
        </p:nvSpPr>
        <p:spPr>
          <a:xfrm>
            <a:off x="6856560" y="2114640"/>
            <a:ext cx="137160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29"/>
          <p:cNvCxnSpPr/>
          <p:nvPr/>
        </p:nvCxnSpPr>
        <p:spPr>
          <a:xfrm flipV="1">
            <a:off x="5713560" y="2114640"/>
            <a:ext cx="1296000" cy="2667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8" name="TextBox 30"/>
          <p:cNvSpPr/>
          <p:nvPr/>
        </p:nvSpPr>
        <p:spPr>
          <a:xfrm>
            <a:off x="5340240" y="49338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kt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7091640" y="22669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k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2"/>
          <p:cNvSpPr/>
          <p:nvPr/>
        </p:nvSpPr>
        <p:spPr>
          <a:xfrm>
            <a:off x="5797800" y="3181320"/>
            <a:ext cx="217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gt;0 позитивн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3"/>
          <p:cNvSpPr/>
          <p:nvPr/>
        </p:nvSpPr>
        <p:spPr>
          <a:xfrm>
            <a:off x="6333480" y="127620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 &gt; 0 pozitiv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спонтан процес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603000" y="223920"/>
            <a:ext cx="84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Гибсова слободна енергија хемијске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14600" y="58053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H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 rot="16200000">
            <a:off x="-1854360" y="305928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ибсова слободна ен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714240" y="303120"/>
            <a:ext cx="814392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притиска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1285920" y="1279440"/>
          <a:ext cx="63500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79440"/>
                    <a:ext cx="6350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ight Brace 4"/>
          <p:cNvSpPr/>
          <p:nvPr/>
        </p:nvSpPr>
        <p:spPr>
          <a:xfrm rot="5400000">
            <a:off x="2643120" y="475920"/>
            <a:ext cx="500040" cy="32148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214800"/>
              <a:gd name="textAreaBottom" fmla="*/ 320184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ight Brace 5"/>
          <p:cNvSpPr/>
          <p:nvPr/>
        </p:nvSpPr>
        <p:spPr>
          <a:xfrm rot="5400000">
            <a:off x="6429240" y="1261800"/>
            <a:ext cx="500040" cy="16430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643040"/>
              <a:gd name="textAreaBottom" fmla="*/ 16300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14720" y="240516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43760" y="240516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71680" y="33577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71680" y="5000760"/>
            <a:ext cx="11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3505320" y="3276720"/>
            <a:ext cx="518148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 притиска, равнотежа се помера у смеру грађења мањег броја молекула г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3581280" y="4800600"/>
            <a:ext cx="518184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м притиска, равнотежа се помера у смеру грађења већег броја молекула г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2"/>
          <p:cNvSpPr/>
          <p:nvPr/>
        </p:nvSpPr>
        <p:spPr>
          <a:xfrm flipH="1">
            <a:off x="1714320" y="528624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1704960" y="37148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14200" y="214200"/>
            <a:ext cx="8501040" cy="1464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 не утиче на положај равнотеже за реакције које се одигравају без промене броја молова учесника у реак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1496880" y="2374920"/>
          <a:ext cx="59245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2374920"/>
                    <a:ext cx="59245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ight Brace 3"/>
          <p:cNvSpPr/>
          <p:nvPr/>
        </p:nvSpPr>
        <p:spPr>
          <a:xfrm rot="5400000">
            <a:off x="2643120" y="1571400"/>
            <a:ext cx="500040" cy="32148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214800"/>
              <a:gd name="textAreaBottom" fmla="*/ 320184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Brace 4"/>
          <p:cNvSpPr/>
          <p:nvPr/>
        </p:nvSpPr>
        <p:spPr>
          <a:xfrm rot="5400000">
            <a:off x="6429240" y="2357280"/>
            <a:ext cx="500040" cy="16430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643040"/>
              <a:gd name="textAreaBottom" fmla="*/ 16300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4"/>
                  <a:pt x="10800" y="548"/>
                </a:cubicBezTo>
                <a:lnTo>
                  <a:pt x="10800" y="10252"/>
                </a:lnTo>
                <a:cubicBezTo>
                  <a:pt x="10800" y="10526"/>
                  <a:pt x="16200" y="10800"/>
                  <a:pt x="21600" y="10800"/>
                </a:cubicBezTo>
                <a:cubicBezTo>
                  <a:pt x="16200" y="10800"/>
                  <a:pt x="10800" y="11074"/>
                  <a:pt x="10800" y="11348"/>
                </a:cubicBezTo>
                <a:lnTo>
                  <a:pt x="10800" y="21052"/>
                </a:lnTo>
                <a:cubicBezTo>
                  <a:pt x="10800" y="2132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2214720" y="350028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6143760" y="3500280"/>
            <a:ext cx="13572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42960" y="4643280"/>
            <a:ext cx="8143920" cy="85752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Промена притиска не утиче на вредност константе равнотеж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3"/>
          <p:cNvSpPr/>
          <p:nvPr/>
        </p:nvSpPr>
        <p:spPr>
          <a:xfrm>
            <a:off x="714240" y="303120"/>
            <a:ext cx="8143920" cy="550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температуре на хемијску равнотеж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2428920" y="1333440"/>
            <a:ext cx="385776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2286000" y="1857240"/>
          <a:ext cx="4146480" cy="12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57240"/>
                    <a:ext cx="414648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6"/>
          <p:cNvSpPr/>
          <p:nvPr/>
        </p:nvSpPr>
        <p:spPr>
          <a:xfrm>
            <a:off x="785880" y="3071880"/>
            <a:ext cx="321480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е ослобађањем 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ТЕР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)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786200" y="3071880"/>
            <a:ext cx="3214800" cy="2571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е 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шком 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Р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)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642960" y="708120"/>
            <a:ext cx="8143920" cy="1136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се увек односи на директну реак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 flipH="1">
            <a:off x="1285560" y="342900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285920" y="3071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28760" y="2357280"/>
            <a:ext cx="300024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гз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28760" y="3619440"/>
            <a:ext cx="300024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нд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 flipH="1">
            <a:off x="6286320" y="342900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>
            <a:off x="6286680" y="3071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5429160" y="2357280"/>
            <a:ext cx="30006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нд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5429160" y="3619440"/>
            <a:ext cx="300060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гзотер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642960" y="4643280"/>
            <a:ext cx="8143920" cy="85752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Промена температуре утиче на вредност константе равнотеж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4"/>
          <p:cNvGraphicFramePr/>
          <p:nvPr/>
        </p:nvGraphicFramePr>
        <p:xfrm>
          <a:off x="1500120" y="357120"/>
          <a:ext cx="63500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57120"/>
                    <a:ext cx="6350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Box 2"/>
          <p:cNvSpPr/>
          <p:nvPr/>
        </p:nvSpPr>
        <p:spPr>
          <a:xfrm>
            <a:off x="2357280" y="1071720"/>
            <a:ext cx="4214880" cy="64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-92,47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71680" y="22953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71680" y="4721400"/>
            <a:ext cx="11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4000" spc="-1" strike="noStrike">
                <a:solidFill>
                  <a:srgbClr val="254061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3429000" y="1919160"/>
            <a:ext cx="5181480" cy="1922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ћањем температуре у реакционом систем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тежа се помера у оном смеру у ком се апсорбује топлота тј.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смеру ендотерм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 flipH="1">
            <a:off x="1714320" y="264312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>
            <a:off x="1714680" y="4925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429000" y="4348080"/>
            <a:ext cx="5181480" cy="1922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нижењем температуре у реакционом систем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тежа се помера у оном смеру у ком се ослобађа топлота тј.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смеру егзотерм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258280" y="621180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088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лободна енергија хемијске реакциј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посматрамо  повратну, реверзибилну хемијску хемијску реакциј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2357280" y="1571760"/>
                <a:ext cx="37594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B </m:t>
                    </m:r>
                    <m:m>
                      <m:mr>
                        <m:e>
                          <m:r>
                            <m:t xml:space="preserve">→</m:t>
                          </m:r>
                        </m:e>
                      </m:mr>
                      <m:mr>
                        <m:e>
                          <m:r>
                            <m:t xml:space="preserve">←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c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7"/>
          <p:cNvSpPr/>
          <p:nvPr/>
        </p:nvSpPr>
        <p:spPr>
          <a:xfrm>
            <a:off x="285840" y="2363760"/>
            <a:ext cx="88581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стандардне слободне енергије реакц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одговара стањима када се сви реактанти и продукти налазе у својим стандардним стањима, то јест имају притисак 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a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 све концентра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реакција тече концентрације и реактаната и продуката се мењају и не могу бити једна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о је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686600" y="200016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82600" y="32274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 промена слободне енергије при стандардним услов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85840" y="461160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с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чини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5429160" y="3000240"/>
                <a:ext cx="307188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Left Arrow 7"/>
          <p:cNvSpPr/>
          <p:nvPr/>
        </p:nvSpPr>
        <p:spPr>
          <a:xfrm rot="16200000">
            <a:off x="300024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eft Arrow 8"/>
          <p:cNvSpPr/>
          <p:nvPr/>
        </p:nvSpPr>
        <p:spPr>
          <a:xfrm rot="16200000">
            <a:off x="514332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а енергија се мора изразити тако да обухвати промену слободне енергије у стандардном 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промену слободне енерг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бог тога што тече хемијск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929200" y="142884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      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2428920" y="2409480"/>
            <a:ext cx="4648320" cy="4442040"/>
            <a:chOff x="2428920" y="2409480"/>
            <a:chExt cx="4648320" cy="4442040"/>
          </a:xfrm>
        </p:grpSpPr>
        <p:sp>
          <p:nvSpPr>
            <p:cNvPr id="90" name="Line 6"/>
            <p:cNvSpPr/>
            <p:nvPr/>
          </p:nvSpPr>
          <p:spPr>
            <a:xfrm>
              <a:off x="2900160" y="6228000"/>
              <a:ext cx="410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 flipV="1">
              <a:off x="2878560" y="2615040"/>
              <a:ext cx="0" cy="36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5781240" y="6275160"/>
              <a:ext cx="129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рем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 rot="16200000">
              <a:off x="688320" y="4150080"/>
              <a:ext cx="393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ncentracija mol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rc 10"/>
            <p:cNvSpPr/>
            <p:nvPr/>
          </p:nvSpPr>
          <p:spPr>
            <a:xfrm>
              <a:off x="2886120" y="2896200"/>
              <a:ext cx="3964320" cy="3084120"/>
            </a:xfrm>
            <a:custGeom>
              <a:avLst/>
              <a:gdLst>
                <a:gd name="textAreaLeft" fmla="*/ 0 w 3964320"/>
                <a:gd name="textAreaRight" fmla="*/ 3964680 w 3964320"/>
                <a:gd name="textAreaTop" fmla="*/ 0 h 3084120"/>
                <a:gd name="textAreaBottom" fmla="*/ 3084480 h 3084120"/>
              </a:gdLst>
              <a:ahLst/>
              <a:rect l="textAreaLeft" t="textAreaTop" r="textAreaRight" b="textAreaBottom"/>
              <a:pathLst>
                <a:path fill="none" w="21088" h="21600">
                  <a:moveTo>
                    <a:pt x="21061" y="21599"/>
                  </a:moveTo>
                  <a:cubicBezTo>
                    <a:pt x="10942" y="21587"/>
                    <a:pt x="2189" y="14552"/>
                    <a:pt x="-1" y="4674"/>
                  </a:cubicBezTo>
                </a:path>
                <a:path stroke="0" w="21088" h="21600">
                  <a:moveTo>
                    <a:pt x="21061" y="21599"/>
                  </a:moveTo>
                  <a:cubicBezTo>
                    <a:pt x="10942" y="21587"/>
                    <a:pt x="2189" y="14552"/>
                    <a:pt x="-1" y="4674"/>
                  </a:cubicBezTo>
                  <a:lnTo>
                    <a:pt x="21088" y="0"/>
                  </a:lnTo>
                  <a:lnTo>
                    <a:pt x="21061" y="21599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rc 11"/>
            <p:cNvSpPr/>
            <p:nvPr/>
          </p:nvSpPr>
          <p:spPr>
            <a:xfrm rot="10800000">
              <a:off x="2914200" y="3741480"/>
              <a:ext cx="3964320" cy="3084120"/>
            </a:xfrm>
            <a:custGeom>
              <a:avLst/>
              <a:gdLst>
                <a:gd name="textAreaLeft" fmla="*/ 0 w 3964320"/>
                <a:gd name="textAreaRight" fmla="*/ 3964680 w 3964320"/>
                <a:gd name="textAreaTop" fmla="*/ 0 h 3084120"/>
                <a:gd name="textAreaBottom" fmla="*/ 3084480 h 3084120"/>
              </a:gdLst>
              <a:ahLst/>
              <a:rect l="textAreaLeft" t="textAreaTop" r="textAreaRight" b="textAreaBottom"/>
              <a:pathLst>
                <a:path fill="none" w="21083" h="21600">
                  <a:moveTo>
                    <a:pt x="21083" y="4696"/>
                  </a:moveTo>
                  <a:cubicBezTo>
                    <a:pt x="18883" y="14573"/>
                    <a:pt x="10119" y="21599"/>
                    <a:pt x="0" y="21600"/>
                  </a:cubicBezTo>
                </a:path>
                <a:path stroke="0" w="21083" h="21600">
                  <a:moveTo>
                    <a:pt x="21083" y="4696"/>
                  </a:moveTo>
                  <a:cubicBezTo>
                    <a:pt x="18883" y="14573"/>
                    <a:pt x="10119" y="21599"/>
                    <a:pt x="0" y="21600"/>
                  </a:cubicBezTo>
                  <a:lnTo>
                    <a:pt x="0" y="0"/>
                  </a:lnTo>
                  <a:lnTo>
                    <a:pt x="21083" y="4696"/>
                  </a:lnTo>
                  <a:close/>
                </a:path>
              </a:pathLst>
            </a:custGeom>
            <a:noFill/>
            <a:ln cap="rnd"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5"/>
          <p:cNvSpPr/>
          <p:nvPr/>
        </p:nvSpPr>
        <p:spPr>
          <a:xfrm>
            <a:off x="4721400" y="3695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41000" y="369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6"/>
          <p:cNvCxnSpPr/>
          <p:nvPr/>
        </p:nvCxnSpPr>
        <p:spPr>
          <a:xfrm flipH="1">
            <a:off x="6786360" y="3768480"/>
            <a:ext cx="2160" cy="22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99" name="Rectangle 5"/>
          <p:cNvSpPr/>
          <p:nvPr/>
        </p:nvSpPr>
        <p:spPr>
          <a:xfrm>
            <a:off x="6760440" y="562464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равноте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01840" y="3286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B равнотежно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3"/>
          <p:cNvCxnSpPr/>
          <p:nvPr/>
        </p:nvCxnSpPr>
        <p:spPr>
          <a:xfrm>
            <a:off x="4286160" y="64296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traight Arrow Connector 25"/>
          <p:cNvCxnSpPr/>
          <p:nvPr/>
        </p:nvCxnSpPr>
        <p:spPr>
          <a:xfrm flipH="1" flipV="1">
            <a:off x="4214520" y="928440"/>
            <a:ext cx="714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357120" y="4052880"/>
                <a:ext cx="1928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4" name="Picture 4" descr=""/>
          <p:cNvPicPr/>
          <p:nvPr/>
        </p:nvPicPr>
        <p:blipFill>
          <a:blip r:embed="rId1"/>
          <a:srcRect l="0" t="31947" r="0" b="26714"/>
          <a:stretch/>
        </p:blipFill>
        <p:spPr>
          <a:xfrm>
            <a:off x="642960" y="857160"/>
            <a:ext cx="7772400" cy="2210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7099200" y="449280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9"/>
          <p:cNvCxnSpPr/>
          <p:nvPr/>
        </p:nvCxnSpPr>
        <p:spPr>
          <a:xfrm>
            <a:off x="7619760" y="4633920"/>
            <a:ext cx="632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20"/>
          <p:cNvCxnSpPr/>
          <p:nvPr/>
        </p:nvCxnSpPr>
        <p:spPr>
          <a:xfrm flipH="1">
            <a:off x="7632360" y="4827240"/>
            <a:ext cx="619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60" y="9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равнотежи ће </a:t>
            </a:r>
            <a:r>
              <a:rPr b="1" lang="el-G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=0, па ћ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 =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ити: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20880" y="2241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3056040" y="2900520"/>
                <a:ext cx="245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5"/>
          <p:cNvSpPr/>
          <p:nvPr/>
        </p:nvSpPr>
        <p:spPr>
          <a:xfrm>
            <a:off x="250920" y="4365720"/>
            <a:ext cx="871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 је К константа равнотеже и представља одн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успостављаној равнотеж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097720" y="18900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00040" y="1571760"/>
          <a:ext cx="7929720" cy="4724280"/>
        </p:xfrm>
        <a:graphic>
          <a:graphicData uri="http://schemas.openxmlformats.org/drawingml/2006/table">
            <a:tbl>
              <a:tblPr/>
              <a:tblGrid>
                <a:gridCol w="712800"/>
                <a:gridCol w="721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свим температурам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lt;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gt;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g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l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и на једној температури није спон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5"/>
          <p:cNvSpPr/>
          <p:nvPr/>
        </p:nvSpPr>
        <p:spPr>
          <a:xfrm>
            <a:off x="1214280" y="28584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ки критеријуми спонта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4953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л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ађењ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:\chapt20\tables_library\20_02.jpg"/>
          <p:cNvPicPr/>
          <p:nvPr/>
        </p:nvPicPr>
        <p:blipFill>
          <a:blip r:embed="rId1"/>
          <a:stretch/>
        </p:blipFill>
        <p:spPr>
          <a:xfrm>
            <a:off x="0" y="1600200"/>
            <a:ext cx="91407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4:55:35Z</dcterms:created>
  <dc:creator>Vera Dondur</dc:creator>
  <dc:description/>
  <dc:language>en-US</dc:language>
  <cp:lastModifiedBy>Snezana Jovanovic</cp:lastModifiedBy>
  <dcterms:modified xsi:type="dcterms:W3CDTF">2023-10-28T10:24:27Z</dcterms:modified>
  <cp:revision>154</cp:revision>
  <dc:subject/>
  <dc:title>Termodinamika  Spontanost, Entropija,  Slobodna energija, Konstanta ravnoeže</dc:title>
</cp:coreProperties>
</file>